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28B-7CDA-43C3-BBED-18A17A74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C70-8EDF-406A-BB81-F01593B5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CE27C-52F4-4D80-B5FD-557653D9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1B98A-C5EC-4A83-B196-0DEC5868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9F6E7-D787-4193-947D-64BE9148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DB645-9DBD-437E-9D59-69F95900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7DDB4-B745-4B14-AD33-742FA7B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42A4F-F714-4C58-8BE4-7D2B4AA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121B8-9DD8-40E5-BC1C-2AC0C883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FF386-8AAB-4B06-A685-73483C8D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A3E09-0949-4AAC-B672-7A09B0C4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9EE83-163A-4E48-80A8-46F5DF94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597-1519-4809-96EA-F02AFD01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E61AA-780F-45DF-8024-E882B2DD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35B2B-E995-4D0B-B288-7C5795AA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42A2E-6FB8-4C06-B2F3-EAC55815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5AE02-6B2C-4098-97A5-15ED4E13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CD35B-CEC1-4BF0-A5B0-86EBAA08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B4E9D-0924-456F-8A94-C8D730F0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7A93D-8BDE-4BC4-A20A-BB735C9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40026-2CF2-40C9-BB49-8FDF7E7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15170-65C6-430A-B87D-F733F772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D841B-FB2A-45F6-9B00-F400F7B3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7ED-8430-4ADB-BE40-1885C1F7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FDCD6-4695-448D-A9F6-358E1A59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2E04D-5A2B-40D3-90D1-B5DE1A59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1E00E-761C-4A29-AE19-84478FAC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0643E-0B6A-46E8-9438-2C9F11D4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5873D-B976-408B-953B-8BC52D07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215E3-0CA5-4987-8535-92FFA500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35E0C-455C-4819-A0C9-F9E639BD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16CE4-D513-4E47-9848-24F84841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D0417-C3A5-4F74-B0F4-F6DE3CA3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93B9C-264B-40C5-8AF3-5B64C765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7484-07A7-4DD1-9810-1619C20A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AFCD7-A357-4CCD-8771-AFB15952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71E63-A5B7-4B1D-86BB-BAA9F99F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0316E-7E64-4A8D-A281-E3EB0C91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3557B-652A-498A-8A97-96EB081A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CF2BF-7A20-4DC0-B351-BBC37028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90129-CC8F-462F-A9B8-232625E9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BE891-45AE-4A86-B9EE-538C1152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B3E21-3436-4FB1-8026-DAA96DA5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7FCC4-00DA-49AD-8E02-E9A49D0F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C3E2E-A2B9-44DA-96E5-33E5E5E9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B80F-38EE-4BAB-A313-1D7E8DE5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F3F6E-A9E3-46B4-93E0-5A6F7C8D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559A5-CEBF-4D2F-8310-9333125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1D89F-B29B-469E-BF1E-9611FFB1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E080E-D01C-4223-AAE9-6C32BEE7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DD50A-2301-4180-98D8-4DE363AC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6B5A1-B7D9-4DA0-823E-230B83BE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50CDC-4D93-4C92-A702-3D12D8D2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A7F05-7885-4E8F-8102-49C8C5FF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A4E36-F9C8-4B2E-BEB1-0622C54D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BE29C-7FDB-4CFE-A333-6FEE94B1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410B-CAF7-4A03-A983-9D50DA81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CA1C5-9EF3-4311-B1A4-38600A38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6FB09-EF14-449A-ABD8-926D225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BE657-9F05-4EAD-814E-A422ABA4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05380-F1D6-4729-954F-AEF7A16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B781D-DB2A-4D41-A686-55F5341C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97CE3-9AA2-49BC-AD90-BF763EC2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503D0-A131-4881-AD70-CE0983DD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BD3BC-32F8-4681-8E3C-C2C92C18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1FC12-DFA1-47D0-94FF-A046CA83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FF296-86DC-4229-99E5-54A9DA40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2AC7-AAED-497C-A5C2-1DAB7038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16F6B-7009-4893-ACFE-656EC559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4DF2F-511B-49BB-B72C-F6891C63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0BBB0-C5B0-4497-B40C-C44DA9A8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AFD3D-7713-400F-B992-2E7157FF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DED24-CE4E-4A77-AE40-ECD1083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E06F5-121A-4B12-AF98-A09E496B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4D8E0-1678-4127-9E58-AC46303C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19788-F2BE-489B-AF67-A6C29C3E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180CE-9BFB-4A7C-9570-35537B9E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68F20-36DD-4440-BFAD-DC095ACE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DF49-7927-496C-9DAE-319A20EC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97124-F5FC-4926-8FA0-95066E9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313BD-78BE-44D3-A1CB-D158553C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EDFBB-4EF0-4801-89BE-BB3CCB4B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EDABF-16C4-484F-8951-177A2865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51211C-33B4-4F13-AE50-BD3FDFE1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2EC1B-DDED-4DE3-A61C-EABB8415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001042-7B1D-4C25-AF49-E9CC3202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A370F-D19E-4A83-92FE-9EDC3E2B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8B266-9487-4FB6-931D-7C80B49E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9BFB7-F8B5-41E7-9DBD-45175F44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149C-3369-4982-BBB5-26885D7A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D3F5A7-E219-4A58-AC88-5F1AF2E5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CDBF3-547B-4191-A64B-EC97F9CB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62834-DA8E-479A-8EB3-532EDCF6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E26FF-4781-49D5-A906-C4AFEF33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61345-4E5F-458F-BFA2-045C843E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3D163-0D88-40D2-AB43-F6DB8BC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3D1A3-0CFC-4D12-8819-78844350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749BA-5D28-4991-849B-AFB97693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D720A-5F2F-4698-A6B5-1CF7B30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70F43-A5E3-4CC1-A1B3-85CD89E2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311C-4A53-43F0-B031-7A601849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23B93-E88A-4C4E-A7BA-5A759921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45B5B-63BE-4FD7-BBA7-6482E955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D8527D-F03E-4C9E-8C47-9AD4779A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808FB-D952-4F51-8327-FFDCBE7D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12608-311E-45F5-88DF-9BD7EAC5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86765C-CFFA-4A2B-8D1C-6AB91B62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44BFD-8F9B-4ACE-B286-E78DFA6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86221-BB42-41E8-8625-5542213A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396CC-9646-4587-9777-0C9693FE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2BF39-AD2B-4F56-8FC5-4B9B346A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0FD-43DD-4544-AF37-A918E717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B627-3ADE-40F7-8171-062968E9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F2ED9-FE90-4499-99A9-AD05761C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3CFD0-BB07-4D3D-8A87-09D673EF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8705D-662D-4C50-98A8-5F700B0C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FFEF0E-C5A4-4DB4-BE28-4148596E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AFB49-CB9A-44FB-9133-D0F81EB5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2B357-CCFF-44E0-AA15-79F878EE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8A9E4-D463-44CB-A64E-3AD8BAEA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C9127-10DC-46D0-B04E-6CC76DB9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5AC3E-DA61-450A-9429-40C39D0B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FE583-7193-4D67-9375-CF4EFCC7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F4C5-72C4-4154-ADF4-A9FDB61C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C4236-AFE5-4140-85A8-EEFA9D73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65D8D-C0F8-4F6D-AAB9-2E46C817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536AC-774A-4D10-8271-AF13E36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87F34-8C4D-43B1-AFCB-91B56922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973AE0-C9A2-4AB1-85AF-B9D04FFA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A6734-B901-4B9F-AD8F-3BBFD83E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26E64-6F32-4090-AE87-59C99DA5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600BC0-1915-4A67-AC18-5050EE20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0BDFF3-2D3F-4A1B-86B0-918DA63B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DBA3C3-1BF9-458F-A6D7-086C76DC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E6AB-233F-45C7-B990-02F67E45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341B4-00CB-4FCD-BBBA-45FE9849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F8058-B5AD-451A-BF2A-7C3897D7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909C9-4DB1-48D4-AD48-D4FDD5E2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8A191-4EF1-4D0A-B9D8-F0AFB2AD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50AA6F-581E-4EBD-8AAD-B94E695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328D81-9DF4-4329-B624-EAC3843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76F399-EF48-4BF2-8444-0191413F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15750-437A-49F5-B775-7B763B63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DADD37-CE5B-4FE9-BC51-52502311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3EE7A-5674-479C-9A2F-5BE676E5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EC44-A5D6-4B82-BE43-1E2F756F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BC930-6B86-4864-8B5A-91E36795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328CD-4132-47E1-80AD-0A66ED6F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47EF4-7B81-4EF4-A3FB-94E5C946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FE3D9-F7B4-4443-8CFD-BF93A4A9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807D4-4CDD-4AA2-B745-72BB0F05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715FB-CAE6-4124-B624-DDA499F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A22ED-0BEA-4D28-A929-8C9AF9F0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52DA2-CAEE-4650-99CF-D43823F8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A41C58-6A62-47ED-8F7B-8A22AE9A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DD0AF-D06F-486A-8F42-26DA261D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13EE-C162-4066-8ECD-F2ABD1CD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9A3F8E-4E5D-406C-8C1E-AF2EAC5E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8F567F-B529-48E1-9723-DE9904E3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343F2C-36E3-4FAA-ACCA-216AB5D0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7539E8-857B-46B7-8843-9A3DBB33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C699BE-D0B7-41A3-8435-89D38015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DDE67C-59E1-4230-ABC6-4FEBBBC5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3C9CB8-8809-469D-A295-FCAE8478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DCF1D-F253-45AB-B160-2E27C2EE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CEDC65-05F3-4183-9C9B-49771D99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66ED0-DE04-42A8-AE9F-0F642257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5883-A4F3-4B98-BFC8-D6659992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69C2C7-BFAB-448F-BE89-C6E92B55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CF453E-1A08-4A2E-94F6-069E3695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43896B-0DAE-468E-9094-E411F831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B9B1-C02D-47AF-A98A-F43D3685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725A-F96A-4D1F-9211-52093D21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F5AF-833E-45CE-8D07-2F17DB0B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C7B6-2808-4141-827A-F503420D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CAA-CEF0-471C-88D5-94192446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905E-E367-4FF2-A8C8-55D34E5D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5B4CC-5B44-4B2D-801E-3E36791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6215-E17F-4D4F-ADBB-B9CE840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C7E3-5FE6-4806-9601-93EDD061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7EDF-A038-406B-B40F-86E74A3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2D89-CDFB-4080-B0F8-85D25B65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4591-6E95-4758-9C74-4747D9C2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832A-F8D0-4119-891A-78D566B1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C12E-2A4F-4E13-9D45-784F14A0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B148-0D05-4B26-BB65-61B34875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FCF-16C4-49B3-BF2D-0D066970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4D41-AD8D-4436-8218-9C9525A4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57E1-7E91-4C2F-BF55-3707179D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BCA7-BFBF-4AF8-861D-98274BF2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5ECB-A75E-41C9-8939-52D51A11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19719-9B07-4A06-B224-AA12D178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4406-7018-4180-A6A0-F092555E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BEEB-BB4D-4B4C-9746-D6907B6A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2CEB-E577-4868-9475-D35D9581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1C640-ADD6-4738-A19E-3E436F9E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3F63E-1524-4F61-AC9E-0D3DAB77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454-E542-4B26-B36C-FDC4A2EC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097F-4FD7-4C70-8D8A-AC387493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93089-71F3-4DE7-BDAD-C742C369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1D697-D136-4009-9324-BD07A4FA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23093-0A95-4A1A-9550-2DCE86B1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0308E-C728-4D55-AFC9-39D9A6E2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0CDBA-FED6-4B85-B95D-2D205BA9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4045-E783-48D5-9A1C-6AB81FF6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3E9C3-D467-4A25-9F6E-9C28EDB7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B7B1C-63DE-4B1E-8DDD-9B6DE29D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5ECD2-49AB-4DD6-B1CC-31C60DFC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45E-27AF-45DD-AED6-B0B0356C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3E4B5-DCAA-4185-B152-4AB8FAA4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7240E-D37E-4F07-80B4-D781E416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DB69D-4DAE-4F32-AD4D-1F1ABCAD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1FB20-FF61-44D1-B3D0-D4F3ED2F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DCADB-415C-492F-8F9B-4B9F5675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C9A8-C67B-490B-8510-1F4D12CF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459CA-93F6-4A80-8030-743B1E36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2AB2-E4AA-4163-80FC-D2C9B21E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D9FD2-039D-4E1E-AD3E-9400D628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839A1-5477-49F0-8391-78E51F7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392-0FDF-4787-88F6-65AA6596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E59C5-0D55-40A4-95B2-9F2A8FF7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57112-9037-4A3F-9FDB-2AF7B278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8FD97-1BC5-402F-BADC-24B77F37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F4F08-934D-4B36-B5A2-2A263CA7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8A3F1-DE4D-4E71-A81B-2181F8E1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B2904-FAE1-45B8-9DAF-0B4E60B2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94C4-AD08-4D0D-AF71-929A13E4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02864-FCD5-438D-919F-D604BA20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357A1-F189-4ACD-BB19-DF6E0230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C41B7-D36F-4459-845F-0DD452E8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938-8F65-46C0-9927-234A414E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1E7B6-2399-4650-895F-0BCA8772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2E502-7653-43E9-8BBC-FDAAC02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BE4BB-19C3-43E7-A0BF-BE40E477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4D20E-C707-4099-815C-DE8AD979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6B5AE-984F-4937-9B02-8ECBB621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4BAC8-1169-4328-A6A6-BFC0ACCD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59F55-9D34-447A-88A5-C0E5749E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16667-E97B-41ED-B8CC-D778F748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9BF54-101B-41CC-BD83-5663B4A9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36083-B4C0-4609-BD0E-3B2E4043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56F-6341-4E7A-93FB-FF0FBAEA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1B0BE-C53F-4034-9D74-11598CEF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06496-19E7-4696-BEE7-A11A4F9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05833-EB6E-400E-BEAD-4FEFB34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C0235-ED6B-4A4F-98A4-35E7C5B5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2773E-F2BD-4046-A997-62DE779E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5F405-B994-43A4-A2DA-3E860E86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A97AC-20F0-4343-91A3-3ECF226C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3A426-64E4-4C45-B845-2EE82902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011A2-67DD-42A6-A2F4-AC6815FD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A5118-D6B5-47A0-9734-FA6656AA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3765-5D51-4440-BFB9-190AD7B165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0182-E585-424B-9DAC-370898D968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D014-781E-42C6-A293-A42F586822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3029-6455-403C-A75F-E022D9890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7B5B-F592-4F3A-A524-571F998DF3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C1EC-F8B7-4154-A4A9-30CE3BE43E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E77D-E596-45BC-83C5-BEBA9DED0F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6A7F-4380-4B30-893A-AF60F57A67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42DD-C66C-46B5-AFBF-317F8E697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15B9-69FF-4F72-A5C9-506B56C352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93AF-ACF1-4A81-8AF0-05FAE36144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8F4A-9599-488D-898B-DF80BB6C1D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5333-D2CE-4A9B-A1FB-63AFBB9A82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8068-0BA1-4104-9AAC-F22CC16B5E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06C6-ECC3-4B33-A6C4-8C774D052A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0F38-40C6-444E-B688-14C3653187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2E6-4C1F-4E55-ABD2-F747179E5A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596C-6C06-497E-8962-A182FB7CD8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06CF-8DE0-481C-B7C9-501644E83D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6BF9-F895-4D2B-A9C3-7C39F1329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BD03-BB4E-4A12-8C90-9AC1E15C35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2565-75AC-4696-A8E4-955F0B0F2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BD74-F4CD-4344-B9BC-3B8CB1703F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8338-6779-47D6-A3A2-1892D5068D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AADE-060D-48B3-8D33-7264A150E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AADB-5FA5-4569-950B-8AF3EB8CC7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747E-BC21-4578-B394-82E6851A20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7E7D-AC6B-4EF9-A16C-971B41F0C6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D44F-47CC-4B55-9884-8A25EFFD5E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B43A-7457-402B-A412-D3D71F5F0C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EC1D-3A71-4525-8E05-8E982BF6E9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BEA6-40A7-4567-A8A8-A387030B24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A1EC-36AD-4059-A353-C12833285C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169A-8119-4900-BC1B-8C392BB9B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C7D4-B477-4F02-881F-AD1089A8DE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7961-988C-4ECB-A910-7A278D5028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9F62-AB47-4177-9B11-2E15250A6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BA28-E5C1-4C40-A61B-256F0927BA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0A0C-FB2D-4954-9C6E-F3AB551552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D535-BBAD-40D6-829D-07A9A01C6F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28920" y="3209760"/>
            <a:ext cx="42861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7120" y="906480"/>
            <a:ext cx="8429760" cy="5114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90760" y="1469880"/>
            <a:ext cx="76176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76212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020000" y="148428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692360" y="1916280"/>
            <a:ext cx="76176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995640" y="1916280"/>
            <a:ext cx="7621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020000" y="1916280"/>
            <a:ext cx="7617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562040" y="2852640"/>
            <a:ext cx="41760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780000" y="2852640"/>
            <a:ext cx="417240" cy="319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940360" y="2852640"/>
            <a:ext cx="417600" cy="319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8101080" y="283860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1547640" y="328464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765600" y="328464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5925960" y="328464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8086680" y="327024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826920" y="5127480"/>
            <a:ext cx="129708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26920" y="5632560"/>
            <a:ext cx="129708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3924360" y="5141880"/>
            <a:ext cx="129708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3924360" y="5646600"/>
            <a:ext cx="1297080" cy="319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6948360" y="5127480"/>
            <a:ext cx="1297080" cy="31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6948360" y="5632560"/>
            <a:ext cx="1297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9410" descr=""/>
          <p:cNvPicPr/>
          <p:nvPr/>
        </p:nvPicPr>
        <p:blipFill>
          <a:blip r:embed="rId1"/>
          <a:stretch/>
        </p:blipFill>
        <p:spPr>
          <a:xfrm>
            <a:off x="228600" y="592200"/>
            <a:ext cx="8686800" cy="60768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539640" y="5848200"/>
            <a:ext cx="3024360" cy="3193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9412" descr=""/>
          <p:cNvPicPr/>
          <p:nvPr/>
        </p:nvPicPr>
        <p:blipFill>
          <a:blip r:embed="rId3"/>
          <a:stretch/>
        </p:blipFill>
        <p:spPr>
          <a:xfrm>
            <a:off x="841320" y="2387520"/>
            <a:ext cx="2087640" cy="4366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3002040" y="2435400"/>
            <a:ext cx="27468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9414" descr=""/>
          <p:cNvPicPr/>
          <p:nvPr/>
        </p:nvPicPr>
        <p:blipFill>
          <a:blip r:embed="rId5"/>
          <a:stretch/>
        </p:blipFill>
        <p:spPr>
          <a:xfrm>
            <a:off x="855720" y="3040200"/>
            <a:ext cx="2087640" cy="436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3016080" y="3087720"/>
            <a:ext cx="27468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9416" descr=""/>
          <p:cNvPicPr/>
          <p:nvPr/>
        </p:nvPicPr>
        <p:blipFill>
          <a:blip r:embed="rId7"/>
          <a:stretch/>
        </p:blipFill>
        <p:spPr>
          <a:xfrm>
            <a:off x="4802040" y="2387520"/>
            <a:ext cx="2087640" cy="4366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8"/>
          <a:stretch/>
        </p:blipFill>
        <p:spPr>
          <a:xfrm>
            <a:off x="6962760" y="2435400"/>
            <a:ext cx="27468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9418" descr=""/>
          <p:cNvPicPr/>
          <p:nvPr/>
        </p:nvPicPr>
        <p:blipFill>
          <a:blip r:embed="rId9"/>
          <a:stretch/>
        </p:blipFill>
        <p:spPr>
          <a:xfrm>
            <a:off x="4802040" y="3040200"/>
            <a:ext cx="2087640" cy="436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0"/>
          <a:stretch/>
        </p:blipFill>
        <p:spPr>
          <a:xfrm>
            <a:off x="6962760" y="3087720"/>
            <a:ext cx="274680" cy="31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1"/>
          <a:stretch/>
        </p:blipFill>
        <p:spPr>
          <a:xfrm>
            <a:off x="539640" y="6365880"/>
            <a:ext cx="3024360" cy="3189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2"/>
          <a:stretch/>
        </p:blipFill>
        <p:spPr>
          <a:xfrm>
            <a:off x="8317080" y="3544920"/>
            <a:ext cx="274320" cy="318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3"/>
          <a:stretch/>
        </p:blipFill>
        <p:spPr>
          <a:xfrm>
            <a:off x="8317080" y="3933720"/>
            <a:ext cx="274320" cy="3193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4"/>
          <a:stretch/>
        </p:blipFill>
        <p:spPr>
          <a:xfrm>
            <a:off x="8317080" y="4292640"/>
            <a:ext cx="274320" cy="3189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5"/>
          <a:stretch/>
        </p:blipFill>
        <p:spPr>
          <a:xfrm>
            <a:off x="8317080" y="4681440"/>
            <a:ext cx="274320" cy="319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6"/>
          <a:stretch/>
        </p:blipFill>
        <p:spPr>
          <a:xfrm>
            <a:off x="8604360" y="5084640"/>
            <a:ext cx="274680" cy="319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7"/>
          <a:stretch/>
        </p:blipFill>
        <p:spPr>
          <a:xfrm>
            <a:off x="8604360" y="5445000"/>
            <a:ext cx="274680" cy="3193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8"/>
          <a:stretch/>
        </p:blipFill>
        <p:spPr>
          <a:xfrm>
            <a:off x="8604360" y="5805360"/>
            <a:ext cx="274680" cy="319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9"/>
          <a:stretch/>
        </p:blipFill>
        <p:spPr>
          <a:xfrm>
            <a:off x="8589960" y="6237360"/>
            <a:ext cx="2746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9:3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